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66320" y="210600"/>
            <a:ext cx="6335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335-71ED-476C-8ECE-7950B03B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용적 욕심 없는 자연에 대한 추상적인 사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 활동과 동떨어진 놀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절대 권위 없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적인 논쟁도 권위에 호소하지 않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밀레토스 학파의 철학자들은 타인의 생각에 동의하지 않았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성과 논리와 관찰을 통해 타인의 생각을 공격하고 자신의 주장을 뒷받침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근의 연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집트 문화가 에게 해 주변의 헬레나 문화 발전에 영향을 미치긴 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헬레나 세계의 내부에서도 다양한 마술과 민간 전승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금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점성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교적 신비주의 등이 민중 속에서 여전히 유행했다는 사실은 이들과 과학지식이 경쟁했음을 시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력 열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입에 의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평야보다는 산과 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앙집중적인 절대 권력 나타나기 보다는 분산된 도시국가 형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신에 정치 구조에 대한 합리적 토론 이루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왕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귀족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주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폭군정 분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치 구조에 관한 합리적 토론과 자연의 구조에 관한 탐구는 종이 한 장 차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제로 정치적 토론은 그리스 과학의 기원에 이르는 한 경로를 제공했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여전히 그리스 자연철학 탄생의 이유는 완벽히 해명 안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스 과학은 그리스에서 기원한 것이 아니라 당시에는 비옥했던 소아시아의 지중해 연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날의 터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기원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처음에는 밀레투스라는 도시에서 시작하여 이오니아라 불리는 지역의 여러 다른 도시로 퍼져나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원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경 그리스 문명의 중심은 이오니아였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스 본토는 확실히 변방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오니아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동안 그리스 본토보다 도시화나 경제적인 면에서 우월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초의 자연철학자 대부분이 이오니아 출신인 것은 놀라운 일이 아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상에 무관심하다는 평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물 일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부러 들어갔다는 해석도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원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의 일식 예측하여 전쟁 종식시켰다는 일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상에 무심한 탈레스의 대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나도 원한다면 나의 지혜를 이용하여 돈을 벌 수 있음 보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얼마나 쉽게 부자가 될 수 있는가를 보여준 적이 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래서 탈레스는 한번은 이 노새에게 스펀지를 운반하게 해서 골치아픈 노새의 습관을 없애버렸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림자를 이용하여 피라미드의 높이를 계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레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 물의 대립물인 불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은 물을 끓여 없애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은 불을 꺼버린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낙시만드로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한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형의 초기 상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페이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으로부터 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습 등의 이원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나오고 세계가 나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너무 뜬구름 잡는 소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낙시메네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립물은 흙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로 대립하는 두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응축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희박화의 힘이 존재하므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가 다양한 밀도로 응축되어 액체와 고체가 되기도 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희박해져서 불이 되기도 한다고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엠페도클레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소로 이루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년 동안 영향력 발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들 사이에는 사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싸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인력과 척력 존재한다고 생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지구는 아무런 받침대 없이 우주의 중심에 자리잡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왜냐하면 지구는 어떤 방향으로든 움직일 이유가 없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따라서 정지해 있기 때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495-6043-48F8-A067-61974601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76D-1946-4DD5-AC06-CA61038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478-008F-4429-8225-9111CC2C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656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48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964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656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48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0D7-9C59-4870-A0CD-9C219256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2B1-1BE9-4B12-8F9A-E5C2989A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18FD-AF9C-417A-85F4-4CFADED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1249-06CA-45B7-B0E2-EA6A4D0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9AA-A99D-4319-A711-387B4A9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6BB-2BC6-4391-9469-1A83FADE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79640" y="301320"/>
            <a:ext cx="670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CAF-6E58-4AE2-85E7-B0557EF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E338-F654-46B1-A304-58EE7C4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D3E-7CF3-4FEC-8B13-C443A056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4D98-02D1-4388-AC31-C9B1E16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0E33-CD6A-4F55-878B-4C9BE4D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5442-9EE4-46D0-BE4F-EE24FE5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29F2-FA14-4F6E-BA6D-0FA98559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4656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348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7964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4656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1348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310-4C28-4EBA-9A56-A3B849DA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123-B1F8-4E68-AAF3-823A522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FA3-4328-4F0B-8423-E44DE7A5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430-BB1F-4B2A-B921-0DF33144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640" y="301320"/>
            <a:ext cx="670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1EB-6F41-4452-B359-4EA35C7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A62-61C0-4B0A-A846-947A717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BC6-1DD1-4399-9BFA-BAF6462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9C-7705-4CE2-BAD1-128CAC1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vantGarde Bk BT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25F-E39A-44D6-B255-D7260255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9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609-83BF-49DA-BFFF-BF099B714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eocities.com/trepanationz/ozone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08000" y="-3124080"/>
            <a:ext cx="9564840" cy="1203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9280" y="549360"/>
            <a:ext cx="3000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산돌목필B"/>
              </a:rPr>
              <a:t>자연철학의 탄생</a:t>
            </a:r>
            <a:endParaRPr b="0" lang="en-US" sz="4000" spc="1" strike="noStrike">
              <a:ln w="1584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산돌목필B"/>
              <a:ea typeface="산돌목필B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아낙시메네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Anaximen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585?-525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만물의 근원은 공기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사물은 無에서 생성 안됨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한 물질의 생성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공기의 응축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희박화 정도에 따름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→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원자론자에 영향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79640" y="189000"/>
          <a:ext cx="12524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9000"/>
                    <a:ext cx="1252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28573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피타고라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Pythagora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Samos, 582?-500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27" name="" descr="pythagoras"/>
          <p:cNvPicPr/>
          <p:nvPr/>
        </p:nvPicPr>
        <p:blipFill>
          <a:blip r:embed="rId1"/>
          <a:stretch/>
        </p:blipFill>
        <p:spPr>
          <a:xfrm>
            <a:off x="1979640" y="189000"/>
            <a:ext cx="124776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827000"/>
            <a:ext cx="67039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만물의 근원은 수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數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피타고라스 학파의 교주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이탈리아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영혼 정화를 위한 수학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수학적 이상주의 전통의 진원지 → 플라톤에 영향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정수와 실제 세계 사이의 연관 강조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음악적 비례와 수적 비례 사이의 연관 발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우주의 수학적 질서 탐구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거대한 교향곡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수신비주의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여성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2,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남성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3,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따라서 결혼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5)</a:t>
            </a:r>
            <a:endParaRPr b="1" lang="en-US" sz="17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연역적 추론과 증명 →  순수 수학의 발전 추동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피타고라스의 정리 증명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무리수의 존재 함축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귀류법을 통한 증명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But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비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6985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19640" y="301320"/>
            <a:ext cx="396072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헤라클레이토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Heraclitu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Ephesus, 540?-480? B.C.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Vs.</a:t>
            </a:r>
            <a:br>
              <a:rPr sz="2400"/>
            </a:b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파르메니데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Parmenide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Elea, around 480 B.C.</a:t>
            </a:r>
            <a:endParaRPr b="1" lang="en-US" sz="24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31" name="" descr="Heraclitus"/>
          <p:cNvPicPr/>
          <p:nvPr/>
        </p:nvPicPr>
        <p:blipFill>
          <a:blip r:embed="rId1"/>
          <a:stretch/>
        </p:blipFill>
        <p:spPr>
          <a:xfrm>
            <a:off x="1979640" y="189000"/>
            <a:ext cx="125712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Parmenides"/>
          <p:cNvPicPr/>
          <p:nvPr/>
        </p:nvPicPr>
        <p:blipFill>
          <a:blip r:embed="rId2"/>
          <a:stretch/>
        </p:blipFill>
        <p:spPr>
          <a:xfrm>
            <a:off x="7451640" y="836640"/>
            <a:ext cx="12002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979640" y="2565360"/>
          <a:ext cx="6703920" cy="2139840"/>
        </p:xfrm>
        <a:graphic>
          <a:graphicData uri="http://schemas.openxmlformats.org/drawingml/2006/table">
            <a:tbl>
              <a:tblPr/>
              <a:tblGrid>
                <a:gridCol w="936720"/>
                <a:gridCol w="2735280"/>
                <a:gridCol w="30319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만물은 끊임없이 변화한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‘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’란 우리 감각의 환영일 뿐이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의 지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신중히 사용한다면 감각도 지식의 근거가 될 수 있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은 신뢰할 수 없으며 오직 이성에만 의존해야 한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08000" y="4941720"/>
            <a:ext cx="6704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감각의 신뢰성 문제 → ‘지식의 토대’ 문제로 발전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어떻게 질서 잡힌 우주에서 변화를 설명할 것인가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	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→ 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엠페도클레스의 중도 노선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엠페도클레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Empedocl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Acragas, 490?-430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흙의 네 뿌리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(rhizomata)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이론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한 물질의 형성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네 뿌리간의 결합과 분리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상대적인 양에 의존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사랑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Love)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과 투쟁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Strife)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의 두 원리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7" name="" descr="Empedocles"/>
          <p:cNvPicPr/>
          <p:nvPr/>
        </p:nvPicPr>
        <p:blipFill>
          <a:blip r:embed="rId1"/>
          <a:stretch/>
        </p:blipFill>
        <p:spPr>
          <a:xfrm>
            <a:off x="1979640" y="189000"/>
            <a:ext cx="120024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naxagoras"/>
          <p:cNvPicPr/>
          <p:nvPr/>
        </p:nvPicPr>
        <p:blipFill>
          <a:blip r:embed="rId2"/>
          <a:stretch/>
        </p:blipFill>
        <p:spPr>
          <a:xfrm>
            <a:off x="1908000" y="4076640"/>
            <a:ext cx="126684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3640" y="4365720"/>
            <a:ext cx="540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아낙사고라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(Anaxagora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Clazomenae, 500?-428? B.C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734080"/>
            <a:ext cx="6704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무한히 많은 수의 기본물질 존재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순수물질 부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모든 것은 함께 있었고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모든 것은 모든 것의 부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" descr="[Earth, Air, Fire, Water]"/>
          <p:cNvPicPr/>
          <p:nvPr/>
        </p:nvPicPr>
        <p:blipFill>
          <a:blip r:embed="rId3"/>
          <a:stretch/>
        </p:blipFill>
        <p:spPr>
          <a:xfrm>
            <a:off x="1979640" y="1773360"/>
            <a:ext cx="676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Democritus"/>
          <p:cNvPicPr/>
          <p:nvPr/>
        </p:nvPicPr>
        <p:blipFill>
          <a:blip r:embed="rId1"/>
          <a:stretch/>
        </p:blipFill>
        <p:spPr>
          <a:xfrm>
            <a:off x="7153200" y="981000"/>
            <a:ext cx="192888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레우키포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Leucippu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Around 435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640" y="2707920"/>
            <a:ext cx="67039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원자론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계는 원자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분할불가능한 입자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와 진공으로 이루어졌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계의 형성과 변화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진공 속에 있는 원자의 모양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위치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배열 등의 우연적이고 기계적인 방식에 의존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무신론이라는 평판 얻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현대의 원자론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17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부활하여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19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현대적 원자론 탄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그 전까지 원자론의 추종자는 극히 소수였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141300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데모크리토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(Democritu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Abdera, 460?-370? B.C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8000" y="333360"/>
          <a:ext cx="121932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33360"/>
                    <a:ext cx="12193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47640" y="301680"/>
            <a:ext cx="533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히포크라테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Hippocrate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Cos, 460?-370? B.C.,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그리고 히포크라테스 전집의 의사들</a:t>
            </a:r>
            <a:endParaRPr b="1" lang="en-US" sz="24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79640" y="1915920"/>
            <a:ext cx="67039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치료와 철학적 체계화의 결합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병의 원인을 신이 아닌 자연에서 찾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체액설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네 가지 체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피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황담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흑담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의 비율에 따라 사람의 성격과 건강 결정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치료보다는 예방 강조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치료는 네 체액의 균형을 회복시키는 것을 통해 가능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다소 조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너무 추상적인 사변은 멀리함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당대의 다양한 형태의 치료술과 경쟁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그들이 남긴 기록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꼼꼼한 임상 기록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히포크라테스 전집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히포크라테스 선서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89000"/>
            <a:ext cx="1195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vantGarde Bk BT"/>
              </a:rPr>
              <a:t>Thank you!</a:t>
            </a:r>
            <a:endParaRPr b="1" lang="en-US" sz="6000" spc="-1" strike="noStrike">
              <a:solidFill>
                <a:srgbClr val="006666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차례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헬레나 시대의 그리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탈레스와 밀레토스 학파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질이론 논쟁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피타고라스 학파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헤라클레이토스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파르메니데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변화이론 논쟁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엠페도클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질이론과 변화이론의 종합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원자론자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레우키포스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데모크리토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히포크라테스 전집의 의사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헬레나 시대의 그리스</a:t>
            </a:r>
            <a:br>
              <a:rPr sz="36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Hellenic era, 600-300 B.C.)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자연철학’의 발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지식 자체를 위한 지식 탐구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원초문명의 실용적 지식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자연에 대한 탈신비화와 객관화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신화적 우주론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보편적 현상에 대한 일반적 해명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목록의 과학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사적 탐구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익명의 과학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학문을 위한 제도적 기관 無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공적 지원 無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학파들’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사적인 모임이나 동아리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개인의 지적 재산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책임과 명예는 모두 개인의 몫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합리적인 비판과 논쟁의 전통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6985080" cy="421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그리스의 도시국가들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68360" y="2133720"/>
            <a:ext cx="2665440" cy="1295280"/>
          </a:xfrm>
          <a:prstGeom prst="rect">
            <a:avLst/>
          </a:prstGeom>
          <a:solidFill>
            <a:srgbClr val="99cccc">
              <a:alpha val="53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척박한 생산 조건과 지형 조건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상업적이고 외향적인 해상문명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정치적으로 분산된 도시국가들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중앙집중적인 관료국가 불가능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정치 구조에 대한 합리적 토론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상대적으로 비옥했던 이오니아 지방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141720"/>
            <a:ext cx="1224000" cy="107928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01680"/>
            <a:ext cx="67039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vantGarde Bk BT"/>
              </a:rPr>
              <a:t>소크라테스 이전 자연철학자들</a:t>
            </a:r>
            <a:endParaRPr b="1" lang="en-US" sz="3200" spc="-1" strike="noStrike">
              <a:solidFill>
                <a:srgbClr val="006666"/>
              </a:solidFill>
              <a:latin typeface="AvantGarde Bk B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79640" y="1015920"/>
          <a:ext cx="6703920" cy="5653080"/>
        </p:xfrm>
        <a:graphic>
          <a:graphicData uri="http://schemas.openxmlformats.org/drawingml/2006/table">
            <a:tbl>
              <a:tblPr/>
              <a:tblGrid>
                <a:gridCol w="4176720"/>
                <a:gridCol w="252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밀레토스 학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탈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낙시만드로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낙시메네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크라가스의 엠페도클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피타고라스 학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사모스의 피타고라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의 철학자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에페수스의 헤라클레이토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엘레아의 파르메니데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자론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밀레토스의 레우키포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압데라의 데모크리토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테네의 소크라테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70?-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테네의 플라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28-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스타기라의 아리스토텔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384-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01320"/>
            <a:ext cx="540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탈레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Thal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624?-548/545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과학자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자연철학자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물질이론 창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밀레토스 학파 형성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별만 바라보고 걷던 나머지 우물에 빠진 탈레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지식 자체를 위한 지식 탐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지구가 물 위에 나무토막이나 배처럼 떠 있으며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지진은 물의 움직임 때문에 발생한다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자연에 대한 탈신비화와 일반적 해명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탈레스의 정리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증명에 대한 관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지식에 대한 사적 책임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4" name="" descr="Thales"/>
          <p:cNvPicPr/>
          <p:nvPr/>
        </p:nvPicPr>
        <p:blipFill>
          <a:blip r:embed="rId1"/>
          <a:stretch/>
        </p:blipFill>
        <p:spPr>
          <a:xfrm>
            <a:off x="1979640" y="260280"/>
            <a:ext cx="118116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5400000">
            <a:off x="3528360" y="3104280"/>
            <a:ext cx="287280" cy="216000"/>
          </a:xfrm>
          <a:custGeom>
            <a:avLst/>
            <a:gdLst>
              <a:gd name="textAreaLeft" fmla="*/ 95760 w 287280"/>
              <a:gd name="textAreaRight" fmla="*/ 246240 w 28728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28360" y="4185360"/>
            <a:ext cx="287280" cy="216000"/>
          </a:xfrm>
          <a:custGeom>
            <a:avLst/>
            <a:gdLst>
              <a:gd name="textAreaLeft" fmla="*/ 95760 w 287280"/>
              <a:gd name="textAreaRight" fmla="*/ 246240 w 28728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528000" y="4977360"/>
            <a:ext cx="287640" cy="216000"/>
          </a:xfrm>
          <a:custGeom>
            <a:avLst/>
            <a:gdLst>
              <a:gd name="textAreaLeft" fmla="*/ 95760 w 287640"/>
              <a:gd name="textAreaRight" fmla="*/ 246600 w 28764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탈레스의 정리들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7097760" cy="486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3528720" cy="303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72000" cy="310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3640" y="5589720"/>
            <a:ext cx="50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증명된 명제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,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즉 ‘정리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'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창안 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&amp;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정리에 탈레스의 이름 붙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191628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탈레스의 정리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: “</a:t>
            </a: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모든 원의 지름의 원주각은 직각이다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밀레토스 학파의 형성</a:t>
            </a:r>
            <a:br>
              <a:rPr sz="36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사물의 물질적 기초에 관한 질문과 답변들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탈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아낙시만드로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무한자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</a:rPr>
              <a:t>(apeiron)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아낙시메네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</a:rPr>
              <a:t>(pneuma)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엠페도클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네 뿌리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합리적 비판과 논쟁 밀레토스 학파 형성 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C.f.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피타고라스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수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數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))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72360" y="4402080"/>
            <a:ext cx="2447640" cy="2455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아낙시만드로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Anaximander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610?-546/545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성 속에 통일성 존재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세계의 온냉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건습 같은 대립된 성질은 원래 무한자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(apeiron)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라 불리는 통일체에서 비롯되었음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천문학과 지리학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지구는 우주의 중심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받침대 無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우주 및 지구모형 고안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태양의 운행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일식 월식 설명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세계 지도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9" name="" descr="Anaximander"/>
          <p:cNvPicPr/>
          <p:nvPr/>
        </p:nvPicPr>
        <p:blipFill>
          <a:blip r:embed="rId3"/>
          <a:stretch/>
        </p:blipFill>
        <p:spPr>
          <a:xfrm>
            <a:off x="1979640" y="2602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FIGURE 67. &lt;i&gt;The Universe according to Anaximander&lt;/i&gt;&lt;br&gt; (&lt;i&gt;c. 611-545 B.C.&lt;/i&gt;)&lt;br&gt; (From &lt;i&gt;Dante and the Early Astronomers&lt;/i&gt;; M. A. Orr (Mrs. John Evershed), 1913.)"/>
          <p:cNvPicPr/>
          <p:nvPr/>
        </p:nvPicPr>
        <p:blipFill>
          <a:blip r:embed="rId4"/>
          <a:stretch/>
        </p:blipFill>
        <p:spPr>
          <a:xfrm>
            <a:off x="3203640" y="4869000"/>
            <a:ext cx="24843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55:34Z</dcterms:created>
  <dc:creator>Woogie</dc:creator>
  <dc:description/>
  <dc:language>en-US</dc:language>
  <cp:lastModifiedBy>Woogie</cp:lastModifiedBy>
  <dcterms:modified xsi:type="dcterms:W3CDTF">2007-03-13T07:51:24Z</dcterms:modified>
  <cp:revision>8</cp:revision>
  <dc:subject/>
  <dc:title>자연철학의 탄생</dc:title>
</cp:coreProperties>
</file>